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sk-SK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3240" cy="477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sk-SK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9040" y="721800"/>
            <a:ext cx="4755960" cy="35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535640"/>
            <a:ext cx="5030640" cy="429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9067680"/>
            <a:ext cx="2971800" cy="478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sk-SK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067680"/>
            <a:ext cx="2973240" cy="478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E845E3-64A9-48E7-AF60-FAFC1315E21F}" type="slidenum">
              <a:rPr b="0" i="1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067680"/>
            <a:ext cx="29732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sk-SK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440" y="9067680"/>
            <a:ext cx="29732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1440" y="0"/>
            <a:ext cx="297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52640" y="723960"/>
            <a:ext cx="4754520" cy="3565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2960" y="4533480"/>
            <a:ext cx="503208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DA6-5EBA-45B9-AF17-57C89168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7F8-E75B-42A6-A431-32B913FD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5B2-7BD5-4DC3-9368-4A201ACA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F19-06F3-4933-A75F-CD41FDE0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C7A-63E4-4147-8797-8599C4BE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D7A-65F8-4489-9E45-36C9F942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400-C772-4BF5-B2FF-AEDBEE01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C62-5A70-4F22-A5D4-8641569C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C7A-20CE-4623-8DCB-5443B590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7A3-1799-40E0-8C85-E3ECE62C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EA5-06C4-4998-AC1E-482A804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D77-68F9-4A7B-BF6A-41CEA34C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16F018-2D29-454A-9589-17EE9F59D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aphicFrame>
          <p:nvGraphicFramePr>
            <p:cNvPr id="49" name=""/>
            <p:cNvGraphicFramePr/>
            <p:nvPr/>
          </p:nvGraphicFramePr>
          <p:xfrm>
            <a:off x="0" y="0"/>
            <a:ext cx="9142560" cy="685800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256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36080" y="6353280"/>
              <a:ext cx="1370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k-SK" sz="1000" spc="-1" strike="noStrike">
                  <a:solidFill>
                    <a:srgbClr val="003399"/>
                  </a:solidFill>
                  <a:latin typeface="Times New Roman"/>
                </a:rPr>
                <a:t>PaedDr. Jozef Beňušk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003399"/>
                  </a:solidFill>
                  <a:latin typeface="Times New Roman"/>
                </a:rPr>
                <a:t>j</a:t>
              </a:r>
              <a:r>
                <a:rPr b="0" i="1" lang="sk-SK" sz="1000" spc="-1" strike="noStrike">
                  <a:solidFill>
                    <a:srgbClr val="003399"/>
                  </a:solidFill>
                  <a:latin typeface="Times New Roman"/>
                </a:rPr>
                <a:t>benuska</a:t>
              </a:r>
              <a:r>
                <a:rPr b="0" i="1" lang="en-US" sz="1000" spc="-1" strike="noStrike">
                  <a:solidFill>
                    <a:srgbClr val="003399"/>
                  </a:solidFill>
                  <a:latin typeface="Times New Roman"/>
                </a:rPr>
                <a:t>@nextra.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83720" y="79200"/>
            <a:ext cx="733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yb neutrónov na kovovej kryštálovej mriežk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0280" y="6232680"/>
            <a:ext cx="782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yb röntgenového žiarenia na kryštálovej mriežk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53055" t="4095" r="970" b="9021"/>
          <a:stretch/>
        </p:blipFill>
        <p:spPr>
          <a:xfrm>
            <a:off x="264960" y="2490840"/>
            <a:ext cx="4203720" cy="374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1549" t="4451" r="53512" b="6152"/>
          <a:stretch/>
        </p:blipFill>
        <p:spPr>
          <a:xfrm>
            <a:off x="4824360" y="684360"/>
            <a:ext cx="4110120" cy="385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45960" y="141120"/>
            <a:ext cx="8456760" cy="4364280"/>
            <a:chOff x="345960" y="141120"/>
            <a:chExt cx="8456760" cy="4364280"/>
          </a:xfrm>
        </p:grpSpPr>
        <p:grpSp>
          <p:nvGrpSpPr>
            <p:cNvPr id="171" name=""/>
            <p:cNvGrpSpPr/>
            <p:nvPr/>
          </p:nvGrpSpPr>
          <p:grpSpPr>
            <a:xfrm>
              <a:off x="345960" y="3625920"/>
              <a:ext cx="8456760" cy="879480"/>
              <a:chOff x="345960" y="3625920"/>
              <a:chExt cx="8456760" cy="879480"/>
            </a:xfrm>
          </p:grpSpPr>
          <p:sp>
            <p:nvSpPr>
              <p:cNvPr id="172" name=""/>
              <p:cNvSpPr/>
              <p:nvPr/>
            </p:nvSpPr>
            <p:spPr>
              <a:xfrm>
                <a:off x="3684600" y="3646440"/>
                <a:ext cx="1724040" cy="85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000000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18240" y="3651120"/>
                <a:ext cx="671400" cy="85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98985b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57520" y="3638520"/>
                <a:ext cx="673200" cy="85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98985b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50160" y="3638520"/>
                <a:ext cx="409320" cy="85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e4e488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31960" y="3625920"/>
                <a:ext cx="409680" cy="853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e4e488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5960" y="3645000"/>
                <a:ext cx="8456760" cy="85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 flipV="1">
              <a:off x="4548240" y="330120"/>
              <a:ext cx="0" cy="415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544400" y="676440"/>
              <a:ext cx="5988240" cy="2957400"/>
              <a:chOff x="1544400" y="676440"/>
              <a:chExt cx="5988240" cy="2957400"/>
            </a:xfrm>
          </p:grpSpPr>
          <p:sp>
            <p:nvSpPr>
              <p:cNvPr id="180" name=""/>
              <p:cNvSpPr/>
              <p:nvPr/>
            </p:nvSpPr>
            <p:spPr>
              <a:xfrm>
                <a:off x="4537080" y="676440"/>
                <a:ext cx="1168560" cy="2933640"/>
              </a:xfrm>
              <a:custGeom>
                <a:avLst/>
                <a:gdLst/>
                <a:ahLst/>
                <a:rect l="l" t="t" r="r" b="b"/>
                <a:pathLst>
                  <a:path w="736" h="1848">
                    <a:moveTo>
                      <a:pt x="0" y="0"/>
                    </a:moveTo>
                    <a:cubicBezTo>
                      <a:pt x="9" y="9"/>
                      <a:pt x="37" y="23"/>
                      <a:pt x="55" y="53"/>
                    </a:cubicBezTo>
                    <a:cubicBezTo>
                      <a:pt x="73" y="85"/>
                      <a:pt x="90" y="126"/>
                      <a:pt x="109" y="187"/>
                    </a:cubicBezTo>
                    <a:cubicBezTo>
                      <a:pt x="128" y="249"/>
                      <a:pt x="140" y="299"/>
                      <a:pt x="170" y="422"/>
                    </a:cubicBezTo>
                    <a:lnTo>
                      <a:pt x="286" y="928"/>
                    </a:lnTo>
                    <a:lnTo>
                      <a:pt x="398" y="1461"/>
                    </a:lnTo>
                    <a:cubicBezTo>
                      <a:pt x="427" y="1585"/>
                      <a:pt x="439" y="1619"/>
                      <a:pt x="458" y="1676"/>
                    </a:cubicBezTo>
                    <a:cubicBezTo>
                      <a:pt x="476" y="1732"/>
                      <a:pt x="490" y="1771"/>
                      <a:pt x="508" y="1800"/>
                    </a:cubicBezTo>
                    <a:cubicBezTo>
                      <a:pt x="527" y="1829"/>
                      <a:pt x="551" y="1848"/>
                      <a:pt x="570" y="1848"/>
                    </a:cubicBezTo>
                    <a:cubicBezTo>
                      <a:pt x="590" y="1848"/>
                      <a:pt x="597" y="1832"/>
                      <a:pt x="625" y="1800"/>
                    </a:cubicBezTo>
                    <a:cubicBezTo>
                      <a:pt x="653" y="1768"/>
                      <a:pt x="713" y="1686"/>
                      <a:pt x="736" y="1656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89440" y="3036960"/>
                <a:ext cx="1843200" cy="592200"/>
              </a:xfrm>
              <a:custGeom>
                <a:avLst/>
                <a:gdLst/>
                <a:ahLst/>
                <a:rect l="l" t="t" r="r" b="b"/>
                <a:pathLst>
                  <a:path w="1161" h="373">
                    <a:moveTo>
                      <a:pt x="0" y="185"/>
                    </a:moveTo>
                    <a:lnTo>
                      <a:pt x="43" y="126"/>
                    </a:lnTo>
                    <a:lnTo>
                      <a:pt x="80" y="84"/>
                    </a:lnTo>
                    <a:cubicBezTo>
                      <a:pt x="94" y="69"/>
                      <a:pt x="112" y="50"/>
                      <a:pt x="126" y="38"/>
                    </a:cubicBezTo>
                    <a:cubicBezTo>
                      <a:pt x="140" y="25"/>
                      <a:pt x="151" y="17"/>
                      <a:pt x="165" y="10"/>
                    </a:cubicBezTo>
                    <a:cubicBezTo>
                      <a:pt x="179" y="4"/>
                      <a:pt x="196" y="0"/>
                      <a:pt x="210" y="0"/>
                    </a:cubicBezTo>
                    <a:cubicBezTo>
                      <a:pt x="225" y="0"/>
                      <a:pt x="238" y="5"/>
                      <a:pt x="252" y="11"/>
                    </a:cubicBezTo>
                    <a:cubicBezTo>
                      <a:pt x="266" y="17"/>
                      <a:pt x="278" y="25"/>
                      <a:pt x="292" y="38"/>
                    </a:cubicBezTo>
                    <a:cubicBezTo>
                      <a:pt x="307" y="50"/>
                      <a:pt x="316" y="60"/>
                      <a:pt x="338" y="85"/>
                    </a:cubicBezTo>
                    <a:lnTo>
                      <a:pt x="426" y="186"/>
                    </a:lnTo>
                    <a:lnTo>
                      <a:pt x="511" y="292"/>
                    </a:lnTo>
                    <a:cubicBezTo>
                      <a:pt x="533" y="317"/>
                      <a:pt x="542" y="324"/>
                      <a:pt x="556" y="336"/>
                    </a:cubicBezTo>
                    <a:cubicBezTo>
                      <a:pt x="570" y="347"/>
                      <a:pt x="579" y="355"/>
                      <a:pt x="593" y="360"/>
                    </a:cubicBezTo>
                    <a:cubicBezTo>
                      <a:pt x="608" y="366"/>
                      <a:pt x="626" y="370"/>
                      <a:pt x="640" y="370"/>
                    </a:cubicBezTo>
                    <a:cubicBezTo>
                      <a:pt x="655" y="370"/>
                      <a:pt x="668" y="367"/>
                      <a:pt x="682" y="360"/>
                    </a:cubicBezTo>
                    <a:cubicBezTo>
                      <a:pt x="696" y="354"/>
                      <a:pt x="707" y="345"/>
                      <a:pt x="722" y="332"/>
                    </a:cubicBezTo>
                    <a:lnTo>
                      <a:pt x="772" y="284"/>
                    </a:lnTo>
                    <a:lnTo>
                      <a:pt x="837" y="229"/>
                    </a:lnTo>
                    <a:cubicBezTo>
                      <a:pt x="861" y="215"/>
                      <a:pt x="893" y="199"/>
                      <a:pt x="915" y="199"/>
                    </a:cubicBezTo>
                    <a:cubicBezTo>
                      <a:pt x="937" y="199"/>
                      <a:pt x="952" y="218"/>
                      <a:pt x="969" y="229"/>
                    </a:cubicBezTo>
                    <a:cubicBezTo>
                      <a:pt x="986" y="240"/>
                      <a:pt x="996" y="250"/>
                      <a:pt x="1017" y="268"/>
                    </a:cubicBezTo>
                    <a:lnTo>
                      <a:pt x="1095" y="337"/>
                    </a:lnTo>
                    <a:cubicBezTo>
                      <a:pt x="1119" y="355"/>
                      <a:pt x="1147" y="365"/>
                      <a:pt x="1161" y="373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3361680" y="681120"/>
                <a:ext cx="1168200" cy="2933640"/>
              </a:xfrm>
              <a:custGeom>
                <a:avLst/>
                <a:gdLst/>
                <a:ahLst/>
                <a:rect l="l" t="t" r="r" b="b"/>
                <a:pathLst>
                  <a:path w="736" h="1848">
                    <a:moveTo>
                      <a:pt x="0" y="0"/>
                    </a:moveTo>
                    <a:cubicBezTo>
                      <a:pt x="9" y="9"/>
                      <a:pt x="37" y="23"/>
                      <a:pt x="55" y="53"/>
                    </a:cubicBezTo>
                    <a:cubicBezTo>
                      <a:pt x="73" y="85"/>
                      <a:pt x="90" y="126"/>
                      <a:pt x="109" y="187"/>
                    </a:cubicBezTo>
                    <a:cubicBezTo>
                      <a:pt x="128" y="249"/>
                      <a:pt x="140" y="299"/>
                      <a:pt x="170" y="422"/>
                    </a:cubicBezTo>
                    <a:lnTo>
                      <a:pt x="286" y="928"/>
                    </a:lnTo>
                    <a:lnTo>
                      <a:pt x="398" y="1461"/>
                    </a:lnTo>
                    <a:cubicBezTo>
                      <a:pt x="427" y="1585"/>
                      <a:pt x="439" y="1619"/>
                      <a:pt x="458" y="1676"/>
                    </a:cubicBezTo>
                    <a:cubicBezTo>
                      <a:pt x="476" y="1732"/>
                      <a:pt x="490" y="1771"/>
                      <a:pt x="508" y="1800"/>
                    </a:cubicBezTo>
                    <a:cubicBezTo>
                      <a:pt x="527" y="1829"/>
                      <a:pt x="551" y="1848"/>
                      <a:pt x="570" y="1848"/>
                    </a:cubicBezTo>
                    <a:cubicBezTo>
                      <a:pt x="590" y="1848"/>
                      <a:pt x="597" y="1832"/>
                      <a:pt x="625" y="1800"/>
                    </a:cubicBezTo>
                    <a:cubicBezTo>
                      <a:pt x="653" y="1768"/>
                      <a:pt x="713" y="1686"/>
                      <a:pt x="736" y="1656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544040" y="3041640"/>
                <a:ext cx="1842840" cy="592200"/>
              </a:xfrm>
              <a:custGeom>
                <a:avLst/>
                <a:gdLst/>
                <a:ahLst/>
                <a:rect l="l" t="t" r="r" b="b"/>
                <a:pathLst>
                  <a:path w="1161" h="373">
                    <a:moveTo>
                      <a:pt x="0" y="185"/>
                    </a:moveTo>
                    <a:lnTo>
                      <a:pt x="43" y="126"/>
                    </a:lnTo>
                    <a:lnTo>
                      <a:pt x="80" y="84"/>
                    </a:lnTo>
                    <a:cubicBezTo>
                      <a:pt x="94" y="69"/>
                      <a:pt x="112" y="50"/>
                      <a:pt x="126" y="38"/>
                    </a:cubicBezTo>
                    <a:cubicBezTo>
                      <a:pt x="140" y="25"/>
                      <a:pt x="151" y="17"/>
                      <a:pt x="165" y="10"/>
                    </a:cubicBezTo>
                    <a:cubicBezTo>
                      <a:pt x="179" y="4"/>
                      <a:pt x="196" y="0"/>
                      <a:pt x="210" y="0"/>
                    </a:cubicBezTo>
                    <a:cubicBezTo>
                      <a:pt x="225" y="0"/>
                      <a:pt x="238" y="5"/>
                      <a:pt x="252" y="11"/>
                    </a:cubicBezTo>
                    <a:cubicBezTo>
                      <a:pt x="266" y="17"/>
                      <a:pt x="278" y="25"/>
                      <a:pt x="292" y="38"/>
                    </a:cubicBezTo>
                    <a:cubicBezTo>
                      <a:pt x="307" y="50"/>
                      <a:pt x="316" y="60"/>
                      <a:pt x="338" y="85"/>
                    </a:cubicBezTo>
                    <a:lnTo>
                      <a:pt x="426" y="186"/>
                    </a:lnTo>
                    <a:lnTo>
                      <a:pt x="511" y="292"/>
                    </a:lnTo>
                    <a:cubicBezTo>
                      <a:pt x="533" y="317"/>
                      <a:pt x="542" y="324"/>
                      <a:pt x="556" y="336"/>
                    </a:cubicBezTo>
                    <a:cubicBezTo>
                      <a:pt x="570" y="347"/>
                      <a:pt x="579" y="355"/>
                      <a:pt x="593" y="360"/>
                    </a:cubicBezTo>
                    <a:cubicBezTo>
                      <a:pt x="608" y="366"/>
                      <a:pt x="626" y="370"/>
                      <a:pt x="640" y="370"/>
                    </a:cubicBezTo>
                    <a:cubicBezTo>
                      <a:pt x="655" y="370"/>
                      <a:pt x="668" y="367"/>
                      <a:pt x="682" y="360"/>
                    </a:cubicBezTo>
                    <a:cubicBezTo>
                      <a:pt x="696" y="354"/>
                      <a:pt x="707" y="345"/>
                      <a:pt x="722" y="332"/>
                    </a:cubicBezTo>
                    <a:lnTo>
                      <a:pt x="772" y="284"/>
                    </a:lnTo>
                    <a:lnTo>
                      <a:pt x="837" y="229"/>
                    </a:lnTo>
                    <a:cubicBezTo>
                      <a:pt x="861" y="215"/>
                      <a:pt x="893" y="199"/>
                      <a:pt x="915" y="199"/>
                    </a:cubicBezTo>
                    <a:cubicBezTo>
                      <a:pt x="937" y="199"/>
                      <a:pt x="952" y="218"/>
                      <a:pt x="969" y="229"/>
                    </a:cubicBezTo>
                    <a:cubicBezTo>
                      <a:pt x="986" y="240"/>
                      <a:pt x="996" y="250"/>
                      <a:pt x="1017" y="268"/>
                    </a:cubicBezTo>
                    <a:lnTo>
                      <a:pt x="1095" y="337"/>
                    </a:lnTo>
                    <a:cubicBezTo>
                      <a:pt x="1119" y="355"/>
                      <a:pt x="1147" y="365"/>
                      <a:pt x="1161" y="373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653000" y="141120"/>
              <a:ext cx="23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očet častí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-13680" y="4751280"/>
            <a:ext cx="9006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jednotlivé elektróny dopadajú do miest maxím, a 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nepatrnom množstve do miest miní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11160" y="5838840"/>
            <a:ext cx="8553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- najväčšia hustota elektrónov je v miestach, kde 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de Broglieho vlny interferenciou zosilňuj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4680" y="29520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Ohyb svetla na dvojštrb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28800" y="1373040"/>
            <a:ext cx="5521320" cy="414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6960" y="6157800"/>
            <a:ext cx="73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vetlite pozorovaný interferenčný obra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5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5920" y="146160"/>
            <a:ext cx="352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toelektrický ja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920" y="1630440"/>
            <a:ext cx="70002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 energia svetelného kvanta  (fotónu)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3584520"/>
            <a:ext cx="71661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 hybnosť svetelného kvanta  (fotónu)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132000" y="2444760"/>
                <a:ext cx="19116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27240" y="4470480"/>
                <a:ext cx="4194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9280" y="142920"/>
            <a:ext cx="5057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Dve teórie o povahe svetla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7560" y="1082520"/>
            <a:ext cx="8838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vlnová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 svetlo je elektromagnetické vlnenie,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1760400"/>
            <a:ext cx="50907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(ohyb, interferencia, lom...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7920" y="2778120"/>
            <a:ext cx="91587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kvantová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 svetlo má charakter častíc-fotónov,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57520" y="3456000"/>
            <a:ext cx="39661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(fotoelektrický jav...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4662360"/>
            <a:ext cx="88459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vetlu prisudzujeme vlnovú a zároveň aj časticovú povahu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03280" y="5554800"/>
            <a:ext cx="4845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ualizmus vlna - čas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5400" y="4498920"/>
            <a:ext cx="89863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-pohybujúce sa častice majú okrem korpuskulárnej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vahy aj vlnovú povahu..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400" y="484200"/>
            <a:ext cx="8867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Častici s hmotnosťou  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elektrón, protón, neutrón a in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ohybujúcej sa rýchlosťou 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v 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5760" y="1978200"/>
            <a:ext cx="59382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 môžeme prisúdiť vlnovú dĺžku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886040" y="2754360"/>
                <a:ext cx="154152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06760" y="2743200"/>
                <a:ext cx="219564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691240" y="2749680"/>
                <a:ext cx="13539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552760" y="5881680"/>
            <a:ext cx="35226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ff0033"/>
                </a:solidFill>
                <a:latin typeface="Times New Roman"/>
              </a:rPr>
              <a:t>de Broglieho vln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7160" y="233280"/>
            <a:ext cx="8915400" cy="6588720"/>
            <a:chOff x="227160" y="233280"/>
            <a:chExt cx="8915400" cy="6588720"/>
          </a:xfrm>
        </p:grpSpPr>
        <p:sp>
          <p:nvSpPr>
            <p:cNvPr id="74" name=""/>
            <p:cNvSpPr/>
            <p:nvPr/>
          </p:nvSpPr>
          <p:spPr>
            <a:xfrm>
              <a:off x="227160" y="6242040"/>
              <a:ext cx="8915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k-SK" sz="3200" spc="-1" strike="noStrike">
                  <a:solidFill>
                    <a:srgbClr val="000000"/>
                  </a:solidFill>
                  <a:latin typeface="Times New Roman"/>
                </a:rPr>
                <a:t>Louis de Broglie  (1892 - 1987), francúzsky fyzi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24400" y="3016080"/>
              <a:ext cx="4654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ositeľ Nobelovej ceny z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yziku v roku 1929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rcRect l="3847" t="1655" r="4326" b="2630"/>
            <a:stretch/>
          </p:blipFill>
          <p:spPr>
            <a:xfrm>
              <a:off x="382680" y="233280"/>
              <a:ext cx="3921120" cy="5980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Experimentálny dôkaz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Osvetlené CD (= optická mriežka) sa javí v odrazenom svetle v rôznych farbách – dochádza k rozptylu a následne interferencii – maximá a minimá (osvetlené a tmavé mie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Elektrónovým lúčom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„ožiarená“ doštička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ykazuje rovnako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rozptyl a najmä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interferen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>
            <a:lum bright="12000"/>
          </a:blip>
          <a:srcRect l="19160" t="0" r="17365" b="17788"/>
          <a:stretch/>
        </p:blipFill>
        <p:spPr>
          <a:xfrm>
            <a:off x="4710240" y="3336840"/>
            <a:ext cx="3622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4587840" y="4233960"/>
            <a:ext cx="3854520" cy="2246040"/>
            <a:chOff x="4587840" y="4233960"/>
            <a:chExt cx="3854520" cy="2246040"/>
          </a:xfrm>
        </p:grpSpPr>
        <p:grpSp>
          <p:nvGrpSpPr>
            <p:cNvPr id="81" name=""/>
            <p:cNvGrpSpPr/>
            <p:nvPr/>
          </p:nvGrpSpPr>
          <p:grpSpPr>
            <a:xfrm>
              <a:off x="4587840" y="6027480"/>
              <a:ext cx="3854520" cy="452520"/>
              <a:chOff x="4587840" y="6027480"/>
              <a:chExt cx="3854520" cy="452520"/>
            </a:xfrm>
          </p:grpSpPr>
          <p:sp>
            <p:nvSpPr>
              <p:cNvPr id="82" name=""/>
              <p:cNvSpPr/>
              <p:nvPr/>
            </p:nvSpPr>
            <p:spPr>
              <a:xfrm>
                <a:off x="6109560" y="6037920"/>
                <a:ext cx="785520" cy="43956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000000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36560" y="6040440"/>
                <a:ext cx="306000" cy="43956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98985b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41200" y="6033960"/>
                <a:ext cx="306720" cy="43956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98985b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97800" y="6033960"/>
                <a:ext cx="186480" cy="43956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e4e488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19280" y="6027480"/>
                <a:ext cx="186480" cy="4392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e4e488"/>
                  </a:gs>
                  <a:gs pos="100000">
                    <a:srgbClr val="ff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87840" y="6037200"/>
                <a:ext cx="3854520" cy="439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V="1">
              <a:off x="6503040" y="4330800"/>
              <a:ext cx="0" cy="213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5133600" y="4509360"/>
              <a:ext cx="2729160" cy="1521720"/>
              <a:chOff x="5133600" y="4509360"/>
              <a:chExt cx="2729160" cy="1521720"/>
            </a:xfrm>
          </p:grpSpPr>
          <p:sp>
            <p:nvSpPr>
              <p:cNvPr id="90" name=""/>
              <p:cNvSpPr/>
              <p:nvPr/>
            </p:nvSpPr>
            <p:spPr>
              <a:xfrm>
                <a:off x="6497640" y="4509360"/>
                <a:ext cx="532440" cy="1509840"/>
              </a:xfrm>
              <a:custGeom>
                <a:avLst/>
                <a:gdLst/>
                <a:ahLst/>
                <a:rect l="l" t="t" r="r" b="b"/>
                <a:pathLst>
                  <a:path w="736" h="1848">
                    <a:moveTo>
                      <a:pt x="0" y="0"/>
                    </a:moveTo>
                    <a:cubicBezTo>
                      <a:pt x="9" y="9"/>
                      <a:pt x="37" y="23"/>
                      <a:pt x="55" y="53"/>
                    </a:cubicBezTo>
                    <a:cubicBezTo>
                      <a:pt x="73" y="85"/>
                      <a:pt x="90" y="126"/>
                      <a:pt x="109" y="187"/>
                    </a:cubicBezTo>
                    <a:cubicBezTo>
                      <a:pt x="128" y="249"/>
                      <a:pt x="140" y="299"/>
                      <a:pt x="170" y="422"/>
                    </a:cubicBezTo>
                    <a:lnTo>
                      <a:pt x="286" y="928"/>
                    </a:lnTo>
                    <a:lnTo>
                      <a:pt x="398" y="1461"/>
                    </a:lnTo>
                    <a:cubicBezTo>
                      <a:pt x="427" y="1585"/>
                      <a:pt x="439" y="1619"/>
                      <a:pt x="458" y="1676"/>
                    </a:cubicBezTo>
                    <a:cubicBezTo>
                      <a:pt x="476" y="1732"/>
                      <a:pt x="490" y="1771"/>
                      <a:pt x="508" y="1800"/>
                    </a:cubicBezTo>
                    <a:cubicBezTo>
                      <a:pt x="527" y="1829"/>
                      <a:pt x="551" y="1848"/>
                      <a:pt x="570" y="1848"/>
                    </a:cubicBezTo>
                    <a:cubicBezTo>
                      <a:pt x="590" y="1848"/>
                      <a:pt x="597" y="1832"/>
                      <a:pt x="625" y="1800"/>
                    </a:cubicBezTo>
                    <a:cubicBezTo>
                      <a:pt x="653" y="1768"/>
                      <a:pt x="713" y="1686"/>
                      <a:pt x="736" y="1656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22880" y="5724360"/>
                <a:ext cx="839880" cy="304560"/>
              </a:xfrm>
              <a:custGeom>
                <a:avLst/>
                <a:gdLst/>
                <a:ahLst/>
                <a:rect l="l" t="t" r="r" b="b"/>
                <a:pathLst>
                  <a:path w="1161" h="373">
                    <a:moveTo>
                      <a:pt x="0" y="185"/>
                    </a:moveTo>
                    <a:lnTo>
                      <a:pt x="43" y="126"/>
                    </a:lnTo>
                    <a:lnTo>
                      <a:pt x="80" y="84"/>
                    </a:lnTo>
                    <a:cubicBezTo>
                      <a:pt x="94" y="69"/>
                      <a:pt x="112" y="50"/>
                      <a:pt x="126" y="38"/>
                    </a:cubicBezTo>
                    <a:cubicBezTo>
                      <a:pt x="140" y="25"/>
                      <a:pt x="151" y="17"/>
                      <a:pt x="165" y="10"/>
                    </a:cubicBezTo>
                    <a:cubicBezTo>
                      <a:pt x="179" y="4"/>
                      <a:pt x="196" y="0"/>
                      <a:pt x="210" y="0"/>
                    </a:cubicBezTo>
                    <a:cubicBezTo>
                      <a:pt x="225" y="0"/>
                      <a:pt x="238" y="5"/>
                      <a:pt x="252" y="11"/>
                    </a:cubicBezTo>
                    <a:cubicBezTo>
                      <a:pt x="266" y="17"/>
                      <a:pt x="278" y="25"/>
                      <a:pt x="292" y="38"/>
                    </a:cubicBezTo>
                    <a:cubicBezTo>
                      <a:pt x="307" y="50"/>
                      <a:pt x="316" y="60"/>
                      <a:pt x="338" y="85"/>
                    </a:cubicBezTo>
                    <a:lnTo>
                      <a:pt x="426" y="186"/>
                    </a:lnTo>
                    <a:lnTo>
                      <a:pt x="511" y="292"/>
                    </a:lnTo>
                    <a:cubicBezTo>
                      <a:pt x="533" y="317"/>
                      <a:pt x="542" y="324"/>
                      <a:pt x="556" y="336"/>
                    </a:cubicBezTo>
                    <a:cubicBezTo>
                      <a:pt x="570" y="347"/>
                      <a:pt x="579" y="355"/>
                      <a:pt x="593" y="360"/>
                    </a:cubicBezTo>
                    <a:cubicBezTo>
                      <a:pt x="608" y="366"/>
                      <a:pt x="626" y="370"/>
                      <a:pt x="640" y="370"/>
                    </a:cubicBezTo>
                    <a:cubicBezTo>
                      <a:pt x="655" y="370"/>
                      <a:pt x="668" y="367"/>
                      <a:pt x="682" y="360"/>
                    </a:cubicBezTo>
                    <a:cubicBezTo>
                      <a:pt x="696" y="354"/>
                      <a:pt x="707" y="345"/>
                      <a:pt x="722" y="332"/>
                    </a:cubicBezTo>
                    <a:lnTo>
                      <a:pt x="772" y="284"/>
                    </a:lnTo>
                    <a:lnTo>
                      <a:pt x="837" y="229"/>
                    </a:lnTo>
                    <a:cubicBezTo>
                      <a:pt x="861" y="215"/>
                      <a:pt x="893" y="199"/>
                      <a:pt x="915" y="199"/>
                    </a:cubicBezTo>
                    <a:cubicBezTo>
                      <a:pt x="937" y="199"/>
                      <a:pt x="952" y="218"/>
                      <a:pt x="969" y="229"/>
                    </a:cubicBezTo>
                    <a:cubicBezTo>
                      <a:pt x="986" y="240"/>
                      <a:pt x="996" y="250"/>
                      <a:pt x="1017" y="268"/>
                    </a:cubicBezTo>
                    <a:lnTo>
                      <a:pt x="1095" y="337"/>
                    </a:lnTo>
                    <a:cubicBezTo>
                      <a:pt x="1119" y="355"/>
                      <a:pt x="1147" y="365"/>
                      <a:pt x="1161" y="373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5961600" y="4511520"/>
                <a:ext cx="532440" cy="1509840"/>
              </a:xfrm>
              <a:custGeom>
                <a:avLst/>
                <a:gdLst/>
                <a:ahLst/>
                <a:rect l="l" t="t" r="r" b="b"/>
                <a:pathLst>
                  <a:path w="736" h="1848">
                    <a:moveTo>
                      <a:pt x="0" y="0"/>
                    </a:moveTo>
                    <a:cubicBezTo>
                      <a:pt x="9" y="9"/>
                      <a:pt x="37" y="23"/>
                      <a:pt x="55" y="53"/>
                    </a:cubicBezTo>
                    <a:cubicBezTo>
                      <a:pt x="73" y="85"/>
                      <a:pt x="90" y="126"/>
                      <a:pt x="109" y="187"/>
                    </a:cubicBezTo>
                    <a:cubicBezTo>
                      <a:pt x="128" y="249"/>
                      <a:pt x="140" y="299"/>
                      <a:pt x="170" y="422"/>
                    </a:cubicBezTo>
                    <a:lnTo>
                      <a:pt x="286" y="928"/>
                    </a:lnTo>
                    <a:lnTo>
                      <a:pt x="398" y="1461"/>
                    </a:lnTo>
                    <a:cubicBezTo>
                      <a:pt x="427" y="1585"/>
                      <a:pt x="439" y="1619"/>
                      <a:pt x="458" y="1676"/>
                    </a:cubicBezTo>
                    <a:cubicBezTo>
                      <a:pt x="476" y="1732"/>
                      <a:pt x="490" y="1771"/>
                      <a:pt x="508" y="1800"/>
                    </a:cubicBezTo>
                    <a:cubicBezTo>
                      <a:pt x="527" y="1829"/>
                      <a:pt x="551" y="1848"/>
                      <a:pt x="570" y="1848"/>
                    </a:cubicBezTo>
                    <a:cubicBezTo>
                      <a:pt x="590" y="1848"/>
                      <a:pt x="597" y="1832"/>
                      <a:pt x="625" y="1800"/>
                    </a:cubicBezTo>
                    <a:cubicBezTo>
                      <a:pt x="653" y="1768"/>
                      <a:pt x="713" y="1686"/>
                      <a:pt x="736" y="1656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5133240" y="5726520"/>
                <a:ext cx="839880" cy="304560"/>
              </a:xfrm>
              <a:custGeom>
                <a:avLst/>
                <a:gdLst/>
                <a:ahLst/>
                <a:rect l="l" t="t" r="r" b="b"/>
                <a:pathLst>
                  <a:path w="1161" h="373">
                    <a:moveTo>
                      <a:pt x="0" y="185"/>
                    </a:moveTo>
                    <a:lnTo>
                      <a:pt x="43" y="126"/>
                    </a:lnTo>
                    <a:lnTo>
                      <a:pt x="80" y="84"/>
                    </a:lnTo>
                    <a:cubicBezTo>
                      <a:pt x="94" y="69"/>
                      <a:pt x="112" y="50"/>
                      <a:pt x="126" y="38"/>
                    </a:cubicBezTo>
                    <a:cubicBezTo>
                      <a:pt x="140" y="25"/>
                      <a:pt x="151" y="17"/>
                      <a:pt x="165" y="10"/>
                    </a:cubicBezTo>
                    <a:cubicBezTo>
                      <a:pt x="179" y="4"/>
                      <a:pt x="196" y="0"/>
                      <a:pt x="210" y="0"/>
                    </a:cubicBezTo>
                    <a:cubicBezTo>
                      <a:pt x="225" y="0"/>
                      <a:pt x="238" y="5"/>
                      <a:pt x="252" y="11"/>
                    </a:cubicBezTo>
                    <a:cubicBezTo>
                      <a:pt x="266" y="17"/>
                      <a:pt x="278" y="25"/>
                      <a:pt x="292" y="38"/>
                    </a:cubicBezTo>
                    <a:cubicBezTo>
                      <a:pt x="307" y="50"/>
                      <a:pt x="316" y="60"/>
                      <a:pt x="338" y="85"/>
                    </a:cubicBezTo>
                    <a:lnTo>
                      <a:pt x="426" y="186"/>
                    </a:lnTo>
                    <a:lnTo>
                      <a:pt x="511" y="292"/>
                    </a:lnTo>
                    <a:cubicBezTo>
                      <a:pt x="533" y="317"/>
                      <a:pt x="542" y="324"/>
                      <a:pt x="556" y="336"/>
                    </a:cubicBezTo>
                    <a:cubicBezTo>
                      <a:pt x="570" y="347"/>
                      <a:pt x="579" y="355"/>
                      <a:pt x="593" y="360"/>
                    </a:cubicBezTo>
                    <a:cubicBezTo>
                      <a:pt x="608" y="366"/>
                      <a:pt x="626" y="370"/>
                      <a:pt x="640" y="370"/>
                    </a:cubicBezTo>
                    <a:cubicBezTo>
                      <a:pt x="655" y="370"/>
                      <a:pt x="668" y="367"/>
                      <a:pt x="682" y="360"/>
                    </a:cubicBezTo>
                    <a:cubicBezTo>
                      <a:pt x="696" y="354"/>
                      <a:pt x="707" y="345"/>
                      <a:pt x="722" y="332"/>
                    </a:cubicBezTo>
                    <a:lnTo>
                      <a:pt x="772" y="284"/>
                    </a:lnTo>
                    <a:lnTo>
                      <a:pt x="837" y="229"/>
                    </a:lnTo>
                    <a:cubicBezTo>
                      <a:pt x="861" y="215"/>
                      <a:pt x="893" y="199"/>
                      <a:pt x="915" y="199"/>
                    </a:cubicBezTo>
                    <a:cubicBezTo>
                      <a:pt x="937" y="199"/>
                      <a:pt x="952" y="218"/>
                      <a:pt x="969" y="229"/>
                    </a:cubicBezTo>
                    <a:cubicBezTo>
                      <a:pt x="986" y="240"/>
                      <a:pt x="996" y="250"/>
                      <a:pt x="1017" y="268"/>
                    </a:cubicBezTo>
                    <a:lnTo>
                      <a:pt x="1095" y="337"/>
                    </a:lnTo>
                    <a:cubicBezTo>
                      <a:pt x="1119" y="355"/>
                      <a:pt x="1147" y="365"/>
                      <a:pt x="1161" y="373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6551640" y="4233960"/>
              <a:ext cx="106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očet častí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2"/>
          <a:srcRect l="14063" t="0" r="12504" b="15174"/>
          <a:stretch/>
        </p:blipFill>
        <p:spPr>
          <a:xfrm>
            <a:off x="7031160" y="0"/>
            <a:ext cx="2112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143160" y="1762560"/>
            <a:ext cx="2025000" cy="2284200"/>
            <a:chOff x="3143160" y="1762560"/>
            <a:chExt cx="2025000" cy="2284200"/>
          </a:xfrm>
        </p:grpSpPr>
        <p:sp>
          <p:nvSpPr>
            <p:cNvPr id="97" name=""/>
            <p:cNvSpPr/>
            <p:nvPr/>
          </p:nvSpPr>
          <p:spPr>
            <a:xfrm>
              <a:off x="3143160" y="2912760"/>
              <a:ext cx="1969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95720" y="2606760"/>
              <a:ext cx="1947240" cy="302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21280" y="2934000"/>
              <a:ext cx="1946880" cy="301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55400" y="2930760"/>
              <a:ext cx="1940760" cy="654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158280" y="2245320"/>
              <a:ext cx="1941120" cy="655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98240" y="1762560"/>
              <a:ext cx="1940040" cy="1114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71600" y="2932560"/>
              <a:ext cx="1939680" cy="1114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27080" y="135000"/>
            <a:ext cx="86904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hyb elektrónov na tenkej grafitovej doštičke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6240" y="1479600"/>
            <a:ext cx="147960" cy="13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0120" y="2965320"/>
            <a:ext cx="147600" cy="13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852640"/>
            <a:ext cx="107640" cy="1080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840" y="2924280"/>
            <a:ext cx="2824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02120" y="2227320"/>
            <a:ext cx="147600" cy="136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383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37260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2320" y="46832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5240" y="4249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480" y="4997520"/>
            <a:ext cx="354708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- zdroj elektró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 - štrb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 - grafitová doštič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- tienid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37200" y="1095480"/>
            <a:ext cx="0" cy="3792600"/>
          </a:xfrm>
          <a:prstGeom prst="line">
            <a:avLst/>
          </a:prstGeom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rcRect l="2652" t="7957" r="49133" b="4784"/>
          <a:stretch/>
        </p:blipFill>
        <p:spPr>
          <a:xfrm>
            <a:off x="5273640" y="1074600"/>
            <a:ext cx="3817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143160" y="1762560"/>
            <a:ext cx="2025000" cy="2284200"/>
            <a:chOff x="3143160" y="1762560"/>
            <a:chExt cx="2025000" cy="2284200"/>
          </a:xfrm>
        </p:grpSpPr>
        <p:sp>
          <p:nvSpPr>
            <p:cNvPr id="118" name=""/>
            <p:cNvSpPr/>
            <p:nvPr/>
          </p:nvSpPr>
          <p:spPr>
            <a:xfrm>
              <a:off x="3143160" y="2912760"/>
              <a:ext cx="1969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95720" y="2606760"/>
              <a:ext cx="1947240" cy="302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21280" y="2934000"/>
              <a:ext cx="1946880" cy="301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55400" y="2930760"/>
              <a:ext cx="1940760" cy="654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158280" y="2245320"/>
              <a:ext cx="1941120" cy="655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198240" y="1762560"/>
              <a:ext cx="1940040" cy="1114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71600" y="2932560"/>
              <a:ext cx="1939680" cy="1114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9000" y="120600"/>
            <a:ext cx="81219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hyb elektrónov na medenej fólii doštičke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6240" y="1479600"/>
            <a:ext cx="147960" cy="13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70120" y="2965320"/>
            <a:ext cx="147600" cy="13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852640"/>
            <a:ext cx="107640" cy="1080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6840" y="2924280"/>
            <a:ext cx="2824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02120" y="2227320"/>
            <a:ext cx="147600" cy="136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9383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37260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2320" y="46832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5240" y="4249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440" y="630252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F - medená fó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37200" y="1095480"/>
            <a:ext cx="0" cy="3792600"/>
          </a:xfrm>
          <a:prstGeom prst="line">
            <a:avLst/>
          </a:prstGeom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rcRect l="51051" t="3571" r="1661" b="3023"/>
          <a:stretch/>
        </p:blipFill>
        <p:spPr>
          <a:xfrm>
            <a:off x="5397480" y="1074600"/>
            <a:ext cx="3494160" cy="3813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44640" y="2254320"/>
            <a:ext cx="88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00" y="31680"/>
            <a:ext cx="8301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Rýchlosť elektrónu v získaná v homogénno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lektrickom poli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5000" y="1073160"/>
            <a:ext cx="2229840" cy="1952640"/>
            <a:chOff x="765000" y="1073160"/>
            <a:chExt cx="2229840" cy="1952640"/>
          </a:xfrm>
        </p:grpSpPr>
        <p:sp>
          <p:nvSpPr>
            <p:cNvPr id="141" name=""/>
            <p:cNvSpPr/>
            <p:nvPr/>
          </p:nvSpPr>
          <p:spPr>
            <a:xfrm>
              <a:off x="1272960" y="1512720"/>
              <a:ext cx="0" cy="151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5000" y="107316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 CE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95520" y="112860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01760" y="161604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01760" y="187308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01760" y="213012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01760" y="238752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01760" y="264456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01760" y="2901960"/>
              <a:ext cx="10382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60520" y="1517400"/>
              <a:ext cx="0" cy="67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0520" y="2346120"/>
              <a:ext cx="0" cy="67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317600" y="2230560"/>
            <a:ext cx="74520" cy="74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69640" y="1654200"/>
            <a:ext cx="378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92400" y="2997360"/>
            <a:ext cx="1044000" cy="532800"/>
            <a:chOff x="1292400" y="2997360"/>
            <a:chExt cx="1044000" cy="532800"/>
          </a:xfrm>
        </p:grpSpPr>
        <p:sp>
          <p:nvSpPr>
            <p:cNvPr id="155" name=""/>
            <p:cNvSpPr/>
            <p:nvPr/>
          </p:nvSpPr>
          <p:spPr>
            <a:xfrm>
              <a:off x="1292400" y="30096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36400" y="299736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292400" y="345744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292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291360" y="2174760"/>
                <a:ext cx="234468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213080" y="1730520"/>
                <a:ext cx="14162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57640" y="2270160"/>
                <a:ext cx="21416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-9000" y="3935520"/>
            <a:ext cx="8271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k-SK" sz="3500" spc="-1" strike="noStrike">
                <a:solidFill>
                  <a:srgbClr val="000000"/>
                </a:solidFill>
                <a:latin typeface="Times New Roman"/>
              </a:rPr>
              <a:t>- zodpovedajúca de Broglieho vlnová dĺžka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82920" y="4572000"/>
                <a:ext cx="13428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095720" y="4572000"/>
                <a:ext cx="18655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mU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6080" y="6162840"/>
            <a:ext cx="73720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ri napätí 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= 150 V   je   </a:t>
            </a:r>
            <a:r>
              <a:rPr b="0" i="1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= 1.10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-10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5" repeatCount="6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4104E-006 L 0.15295 -3.4104E-006 E">
                                      <p:cBhvr>
                                        <p:cTn id="164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3:53:46Z</dcterms:created>
  <dc:creator>Jozef Benuska</dc:creator>
  <dc:description/>
  <dc:language>en-US</dc:language>
  <cp:lastModifiedBy>učiteľ</cp:lastModifiedBy>
  <cp:lastPrinted>1998-09-08T11:46:20Z</cp:lastPrinted>
  <dcterms:modified xsi:type="dcterms:W3CDTF">2008-06-24T23:56:35Z</dcterms:modified>
  <cp:revision>144</cp:revision>
  <dc:subject/>
  <dc:title>bez titulu</dc:title>
</cp:coreProperties>
</file>